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28.jpeg" ContentType="image/jpeg"/>
  <Override PartName="/ppt/media/image7.jpeg" ContentType="image/jpeg"/>
  <Override PartName="/ppt/media/image9.png" ContentType="image/png"/>
  <Override PartName="/ppt/media/image5.png" ContentType="image/png"/>
  <Override PartName="/ppt/media/image29.jpeg" ContentType="image/jpeg"/>
  <Override PartName="/ppt/media/image33.wmf" ContentType="image/x-wmf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432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676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18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432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676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61880" y="123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432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676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18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432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676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1880" y="123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114948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468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71500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58316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343836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29392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9a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450720" y="1009800"/>
            <a:ext cx="8242560" cy="88920"/>
          </a:xfrm>
          <a:prstGeom prst="rect">
            <a:avLst/>
          </a:prstGeom>
          <a:gradFill rotWithShape="0">
            <a:gsLst>
              <a:gs pos="0">
                <a:srgbClr val="7fb99b"/>
              </a:gs>
              <a:gs pos="50000">
                <a:srgbClr val="437b5e"/>
              </a:gs>
              <a:gs pos="100000">
                <a:srgbClr val="7fb99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14948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68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71500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58316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43836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29392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450720" y="1009800"/>
            <a:ext cx="8242560" cy="88920"/>
          </a:xfrm>
          <a:prstGeom prst="rect">
            <a:avLst/>
          </a:prstGeom>
          <a:gradFill rotWithShape="0">
            <a:gsLst>
              <a:gs pos="0">
                <a:srgbClr val="7fb99b"/>
              </a:gs>
              <a:gs pos="50000">
                <a:srgbClr val="437b5e"/>
              </a:gs>
              <a:gs pos="100000">
                <a:srgbClr val="7fb99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999560" y="0"/>
            <a:ext cx="1144440" cy="34243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999560" y="4568760"/>
            <a:ext cx="1144440" cy="228924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999560" y="3424320"/>
            <a:ext cx="1144440" cy="114444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1144440" y="5684760"/>
            <a:ext cx="114480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71032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57848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433680" y="5684760"/>
            <a:ext cx="114480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228924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61" name="Picture 17" descr="AAC_couleur_eng"/>
          <p:cNvPicPr/>
          <p:nvPr/>
        </p:nvPicPr>
        <p:blipFill>
          <a:blip r:embed="rId2"/>
          <a:stretch/>
        </p:blipFill>
        <p:spPr>
          <a:xfrm>
            <a:off x="322200" y="6151680"/>
            <a:ext cx="3460680" cy="27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ua"/>
          <p:cNvPicPr/>
          <p:nvPr/>
        </p:nvPicPr>
        <p:blipFill>
          <a:blip r:embed="rId3"/>
          <a:stretch/>
        </p:blipFill>
        <p:spPr>
          <a:xfrm>
            <a:off x="5376960" y="5996160"/>
            <a:ext cx="2452680" cy="583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9a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274680" y="5902200"/>
            <a:ext cx="3672000" cy="760680"/>
            <a:chOff x="274680" y="5902200"/>
            <a:chExt cx="3672000" cy="760680"/>
          </a:xfrm>
        </p:grpSpPr>
        <p:pic>
          <p:nvPicPr>
            <p:cNvPr id="102" name="Picture 13" descr="https://encrypted-tbn2.gstatic.com/images?q=tbn:ANd9GcSUkHTlHNUTLADC-4E2yuHXUsAM_uQDjBaBXamMU-gTpmQ_ahXz"/>
            <p:cNvPicPr/>
            <p:nvPr/>
          </p:nvPicPr>
          <p:blipFill>
            <a:blip r:embed="rId2"/>
            <a:stretch/>
          </p:blipFill>
          <p:spPr>
            <a:xfrm>
              <a:off x="274680" y="5902200"/>
              <a:ext cx="838080" cy="7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2"/>
            <p:cNvSpPr/>
            <p:nvPr/>
          </p:nvSpPr>
          <p:spPr>
            <a:xfrm>
              <a:off x="1128600" y="5949720"/>
              <a:ext cx="281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262626"/>
                  </a:solidFill>
                  <a:latin typeface="Bookman Old Style"/>
                </a:rPr>
                <a:t>University for Development Studies</a:t>
              </a:r>
              <a:endParaRPr b="0" lang="en-US" sz="18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  <p:sp>
        <p:nvSpPr>
          <p:cNvPr id="104" name="Rectangle 41"/>
          <p:cNvSpPr/>
          <p:nvPr/>
        </p:nvSpPr>
        <p:spPr>
          <a:xfrm>
            <a:off x="289080" y="1075320"/>
            <a:ext cx="7711920" cy="2775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Effects of drying or ensiling groundnut haulms on growth performance of sheep </a:t>
            </a:r>
            <a:endParaRPr b="0" lang="en-US" sz="44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0240" y="4635360"/>
            <a:ext cx="78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03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603f"/>
                </a:solidFill>
                <a:latin typeface="Arial"/>
                <a:ea typeface="Arial"/>
              </a:rPr>
              <a:t>Addah, W., Deku</a:t>
            </a:r>
            <a:r>
              <a:rPr b="0" lang="en-CA" sz="3200" spc="-1" strike="noStrike" baseline="30000">
                <a:solidFill>
                  <a:srgbClr val="00603f"/>
                </a:solidFill>
                <a:latin typeface="Arial"/>
                <a:ea typeface="Arial"/>
              </a:rPr>
              <a:t>,</a:t>
            </a:r>
            <a:r>
              <a:rPr b="0" lang="en-CA" sz="3200" spc="-1" strike="noStrike">
                <a:solidFill>
                  <a:srgbClr val="00603f"/>
                </a:solidFill>
                <a:latin typeface="Arial"/>
                <a:ea typeface="Arial"/>
              </a:rPr>
              <a:t> G. and Ayantunde, A. A.</a:t>
            </a:r>
            <a:endParaRPr b="0" lang="en-US" sz="3200" spc="-1" strike="noStrike">
              <a:solidFill>
                <a:srgbClr val="00603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4145040" y="5864400"/>
            <a:ext cx="4827600" cy="7794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7"/>
          <p:cNvGrpSpPr/>
          <p:nvPr/>
        </p:nvGrpSpPr>
        <p:grpSpPr>
          <a:xfrm>
            <a:off x="368280" y="111240"/>
            <a:ext cx="7561440" cy="815760"/>
            <a:chOff x="368280" y="111240"/>
            <a:chExt cx="7561440" cy="815760"/>
          </a:xfrm>
        </p:grpSpPr>
        <p:pic>
          <p:nvPicPr>
            <p:cNvPr id="108" name="Picture 2" descr="C:\Users\FS 029\Desktop\ILRI-UDS\PICTURES\IMG_20151016_011902.jpg"/>
            <p:cNvPicPr/>
            <p:nvPr/>
          </p:nvPicPr>
          <p:blipFill>
            <a:blip r:embed="rId4"/>
            <a:stretch/>
          </p:blipFill>
          <p:spPr>
            <a:xfrm>
              <a:off x="368280" y="113400"/>
              <a:ext cx="188424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" descr="C:\Users\FS 029\Desktop\ILRI-UDS\PICTURES\IMG_20151016_011902.jpg"/>
            <p:cNvPicPr/>
            <p:nvPr/>
          </p:nvPicPr>
          <p:blipFill>
            <a:blip r:embed="rId5"/>
            <a:stretch/>
          </p:blipFill>
          <p:spPr>
            <a:xfrm>
              <a:off x="2252520" y="111240"/>
              <a:ext cx="188424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" descr="C:\Users\FS 029\Desktop\ILRI-UDS\PICTURES\IMG_20151016_011902.jpg"/>
            <p:cNvPicPr/>
            <p:nvPr/>
          </p:nvPicPr>
          <p:blipFill>
            <a:blip r:embed="rId6"/>
            <a:stretch/>
          </p:blipFill>
          <p:spPr>
            <a:xfrm>
              <a:off x="4137120" y="111240"/>
              <a:ext cx="1913400" cy="81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" descr="C:\Users\FS 029\Desktop\ILRI-UDS\PICTURES\IMG_20151016_011902.jpg"/>
            <p:cNvPicPr/>
            <p:nvPr/>
          </p:nvPicPr>
          <p:blipFill>
            <a:blip r:embed="rId7"/>
            <a:stretch/>
          </p:blipFill>
          <p:spPr>
            <a:xfrm>
              <a:off x="6045480" y="113400"/>
              <a:ext cx="1884240" cy="813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Calibri"/>
              </a:rPr>
              <a:t>Table 2. Chemical and microbial compositions of  groundnut haulm conserved as hay or silage</a:t>
            </a:r>
            <a:br>
              <a:rPr sz="2400"/>
            </a:b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1360" y="1066680"/>
          <a:ext cx="8763120" cy="5556240"/>
        </p:xfrm>
        <a:graphic>
          <a:graphicData uri="http://schemas.openxmlformats.org/drawingml/2006/table">
            <a:tbl>
              <a:tblPr/>
              <a:tblGrid>
                <a:gridCol w="3823560"/>
                <a:gridCol w="173520"/>
                <a:gridCol w="1496880"/>
                <a:gridCol w="1807560"/>
                <a:gridCol w="1461600"/>
              </a:tblGrid>
              <a:tr h="38556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(mean ± SD)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ensiled haulm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erved haulm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y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siled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 ± 0.6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7 ± 0.09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2 ± 0.08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composition (g/kg  DM)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0760">
                <a:tc gridSpan="2">
                  <a:txBody>
                    <a:bodyPr lIns="68760" rIns="68760" tIns="0" bIns="0" anchor="b">
                      <a:noAutofit/>
                    </a:bodyPr>
                    <a:p>
                      <a:pPr marL="120600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C (mg/kg)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4 ± </a:t>
                      </a: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.6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1 ± 0.9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3 ± 1.1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076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monia-N (g/kg of total N)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1 ± 0.2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.6 ± 0.1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.3 ± 0.2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tic acid (g/kg DM)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5 ± 1.3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5 ±  0.2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robial populations (Log</a:t>
                      </a:r>
                      <a:r>
                        <a:rPr b="1" lang="en-CA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FU/g DM)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tic acid bacteria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 ± 0.6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8 ± 0.4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 ± 0.2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ulds 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 ± 1.9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 ± 1.3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 ± 1.0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sts 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 ± 2.1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5 ± 0.8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2 ± 1.0</a:t>
                      </a:r>
                      <a:endParaRPr b="0" lang="en-US" sz="22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5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, below limits of quantification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79280" y="1001880"/>
          <a:ext cx="8410680" cy="5749920"/>
        </p:xfrm>
        <a:graphic>
          <a:graphicData uri="http://schemas.openxmlformats.org/drawingml/2006/table">
            <a:tbl>
              <a:tblPr/>
              <a:tblGrid>
                <a:gridCol w="3251160"/>
                <a:gridCol w="1387800"/>
                <a:gridCol w="1180800"/>
                <a:gridCol w="1035000"/>
                <a:gridCol w="1555920"/>
              </a:tblGrid>
              <a:tr h="897840">
                <a:tc gridSpan="5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3. DMI growth performance of sheep (n = 10) fed groundnut  haulm hay or silage diets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ns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````````````````````````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575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y 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age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lue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weight (kg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5.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4.5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96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618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weight (kg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7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6.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3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1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eight gain (kg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3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1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G (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81.8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8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0.8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1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 intake (g/d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782.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4.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42.8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69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 efficiency (ADG/DM intake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19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0.05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3"/>
          <p:cNvSpPr/>
          <p:nvPr/>
        </p:nvSpPr>
        <p:spPr>
          <a:xfrm>
            <a:off x="-534600" y="6170760"/>
            <a:ext cx="4391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ADG: average daily gain`````````````````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527040" y="47520"/>
            <a:ext cx="7561440" cy="817560"/>
            <a:chOff x="527040" y="47520"/>
            <a:chExt cx="7561440" cy="817560"/>
          </a:xfrm>
        </p:grpSpPr>
        <p:pic>
          <p:nvPicPr>
            <p:cNvPr id="163" name="Picture 2" descr="C:\Users\FS 029\Desktop\ILRI-UDS\PICTURES\IMG_20151016_011902.jpg"/>
            <p:cNvPicPr/>
            <p:nvPr/>
          </p:nvPicPr>
          <p:blipFill>
            <a:blip r:embed="rId1"/>
            <a:stretch/>
          </p:blipFill>
          <p:spPr>
            <a:xfrm>
              <a:off x="527040" y="49680"/>
              <a:ext cx="1884240" cy="8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" descr="C:\Users\FS 029\Desktop\ILRI-UDS\PICTURES\IMG_20151016_011902.jpg"/>
            <p:cNvPicPr/>
            <p:nvPr/>
          </p:nvPicPr>
          <p:blipFill>
            <a:blip r:embed="rId2"/>
            <a:stretch/>
          </p:blipFill>
          <p:spPr>
            <a:xfrm>
              <a:off x="2411280" y="47520"/>
              <a:ext cx="1884240" cy="8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" descr="C:\Users\FS 029\Desktop\ILRI-UDS\PICTURES\IMG_20151016_011902.jpg"/>
            <p:cNvPicPr/>
            <p:nvPr/>
          </p:nvPicPr>
          <p:blipFill>
            <a:blip r:embed="rId3"/>
            <a:stretch/>
          </p:blipFill>
          <p:spPr>
            <a:xfrm>
              <a:off x="4295880" y="47520"/>
              <a:ext cx="1913400" cy="81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" descr="C:\Users\FS 029\Desktop\ILRI-UDS\PICTURES\IMG_20151016_011902.jpg"/>
            <p:cNvPicPr/>
            <p:nvPr/>
          </p:nvPicPr>
          <p:blipFill>
            <a:blip r:embed="rId4"/>
            <a:stretch/>
          </p:blipFill>
          <p:spPr>
            <a:xfrm>
              <a:off x="6204240" y="49680"/>
              <a:ext cx="1884240" cy="81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69720"/>
            <a:ext cx="7620120" cy="60192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Arial"/>
              </a:rPr>
              <a:t>Fermentation quality of haulm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5445000"/>
            <a:ext cx="83534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f2b20"/>
                </a:solidFill>
                <a:latin typeface="Arial"/>
              </a:rPr>
              <a:t>Plate 1. Poorly fermented silage vs hay can reduce DM in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50920" y="2147760"/>
            <a:ext cx="4073400" cy="3140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FS 029\Desktop\ILRI-UDS\PICTURES\ILRI PICTURES 057.jpg"/>
          <p:cNvPicPr/>
          <p:nvPr/>
        </p:nvPicPr>
        <p:blipFill>
          <a:blip r:embed="rId2"/>
          <a:stretch/>
        </p:blipFill>
        <p:spPr>
          <a:xfrm>
            <a:off x="4853160" y="2378160"/>
            <a:ext cx="4176720" cy="26794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7474320" y="24922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Hay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422880" y="226224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Silage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779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50920" y="1052640"/>
            <a:ext cx="866448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Silage was poorly fermented largely because of lower concentration of WSC  for fermentation (Muck, 1998; Addah et al., 2012) and silo manage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Hay had a higher retention of leaves and was well dr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Greater feed intake and growth performance</a:t>
            </a:r>
            <a:r>
              <a:rPr b="0" lang="en-CA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for hay compared silage may be due to the poor fermentation of the haulms compared to the ha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  <a:ea typeface="Calibri"/>
              </a:rPr>
              <a:t>Additional sugars could be added to haulms to improve ferment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  <a:ea typeface="Calibri"/>
              </a:rPr>
              <a:t>Where the weather conditions are favourable, drying is preferable  unless sugar is added before ensil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28600" y="3352680"/>
            <a:ext cx="3039840" cy="42912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2f2b20"/>
                </a:solidFill>
                <a:latin typeface="Arial"/>
              </a:rPr>
              <a:t>Growth performance</a:t>
            </a:r>
            <a:endParaRPr b="0" lang="en-US" sz="22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250920" y="1050840"/>
            <a:ext cx="5135400" cy="429120"/>
          </a:xfrm>
          <a:prstGeom prst="rect">
            <a:avLst/>
          </a:prstGeom>
          <a:solidFill>
            <a:srgbClr val="f0f8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2f2b20"/>
                </a:solidFill>
                <a:latin typeface="Arial"/>
              </a:rPr>
              <a:t>Silage fermentation characteristics</a:t>
            </a:r>
            <a:endParaRPr b="0" lang="en-US" sz="22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6600"/>
                </a:solidFill>
                <a:latin typeface="Arial"/>
              </a:rPr>
              <a:t>Discussions?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2476440" y="812880"/>
          <a:ext cx="3848040" cy="54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440" y="812880"/>
                    <a:ext cx="3848040" cy="54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1000" y="5805360"/>
            <a:ext cx="8340480" cy="64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00"/>
                </a:solidFill>
                <a:latin typeface="Arial"/>
              </a:rPr>
              <a:t>Fig. 1. Growth pattern of sheep fed hay- or silage diet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81" name="Chart 4" descr=""/>
          <p:cNvPicPr/>
          <p:nvPr/>
        </p:nvPicPr>
        <p:blipFill>
          <a:blip r:embed="rId1"/>
          <a:stretch/>
        </p:blipFill>
        <p:spPr>
          <a:xfrm>
            <a:off x="390600" y="1444680"/>
            <a:ext cx="8217000" cy="443232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5"/>
          <p:cNvGrpSpPr/>
          <p:nvPr/>
        </p:nvGrpSpPr>
        <p:grpSpPr>
          <a:xfrm>
            <a:off x="539640" y="453960"/>
            <a:ext cx="7561440" cy="816120"/>
            <a:chOff x="539640" y="453960"/>
            <a:chExt cx="7561440" cy="816120"/>
          </a:xfrm>
        </p:grpSpPr>
        <p:pic>
          <p:nvPicPr>
            <p:cNvPr id="183" name="Picture 2" descr="C:\Users\FS 029\Desktop\ILRI-UDS\PICTURES\IMG_20151016_011902.jpg"/>
            <p:cNvPicPr/>
            <p:nvPr/>
          </p:nvPicPr>
          <p:blipFill>
            <a:blip r:embed="rId2"/>
            <a:stretch/>
          </p:blipFill>
          <p:spPr>
            <a:xfrm>
              <a:off x="539640" y="456120"/>
              <a:ext cx="1884240" cy="81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" descr="C:\Users\FS 029\Desktop\ILRI-UDS\PICTURES\IMG_20151016_011902.jpg"/>
            <p:cNvPicPr/>
            <p:nvPr/>
          </p:nvPicPr>
          <p:blipFill>
            <a:blip r:embed="rId3"/>
            <a:stretch/>
          </p:blipFill>
          <p:spPr>
            <a:xfrm>
              <a:off x="2423880" y="453960"/>
              <a:ext cx="1884240" cy="81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" descr="C:\Users\FS 029\Desktop\ILRI-UDS\PICTURES\IMG_20151016_011902.jpg"/>
            <p:cNvPicPr/>
            <p:nvPr/>
          </p:nvPicPr>
          <p:blipFill>
            <a:blip r:embed="rId4"/>
            <a:stretch/>
          </p:blipFill>
          <p:spPr>
            <a:xfrm>
              <a:off x="4308480" y="453960"/>
              <a:ext cx="1913400" cy="81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" descr="C:\Users\FS 029\Desktop\ILRI-UDS\PICTURES\IMG_20151016_011902.jpg"/>
            <p:cNvPicPr/>
            <p:nvPr/>
          </p:nvPicPr>
          <p:blipFill>
            <a:blip r:embed="rId5"/>
            <a:stretch/>
          </p:blipFill>
          <p:spPr>
            <a:xfrm>
              <a:off x="6216840" y="456120"/>
              <a:ext cx="1884240" cy="81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723960" y="1197000"/>
          <a:ext cx="7296120" cy="5942160"/>
        </p:xfrm>
        <a:graphic>
          <a:graphicData uri="http://schemas.openxmlformats.org/drawingml/2006/table">
            <a:tbl>
              <a:tblPr/>
              <a:tblGrid>
                <a:gridCol w="3270240"/>
                <a:gridCol w="1627200"/>
                <a:gridCol w="2398680"/>
              </a:tblGrid>
              <a:tr h="490320">
                <a:tc gridSpan="3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able 2. Ingredient and chemical compositions of total mixed rations containing groundnut haulm  conserved as hay or silage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 (g/kg  DM)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y 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lage 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grid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redient composition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n chaff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ce bran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le cotton seed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siled groundnut haulm 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y groundnut haulm 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 grid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mical composition 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mean ± SD)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y matter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0.1 ± 40.4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7.5 ± 37.3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ude protein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.5 ± 35.4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3 ± 18.4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ude fat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±0.3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± 11.6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ude fibre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.3 ± 82.3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.9 ± 76.3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ogen free extract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4 ± 93.2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6  ± 60.1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± 5.8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± 14.5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tral detergent fibre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.0 ± 86.7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0 ± 11.7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16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d detergent fibre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0 ± 113.3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 ± 86.6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E (MJ/kg DM)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 ± 1.99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 ± 0.04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5120">
                <a:tc gridSpan="3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le crop groundnut haulm was ensiled for 171 d in bag (23 x 34 x 56 m) silos whereas hay was initial field-cured for 6 d and then stored unprotected for addition 130 d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ole</a:t>
                      </a: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tton seed was treated with 1% (fresh basis) saline solution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 (MJ/kg DM) = 0.31crude protein + 0.12 crude fat + 0.05 crude fibre + 0.14 nitrogen free extract (Ellis, 1980).</a:t>
                      </a:r>
                      <a:endParaRPr b="0" lang="en-US" sz="1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Rectangle 1"/>
          <p:cNvSpPr/>
          <p:nvPr/>
        </p:nvSpPr>
        <p:spPr>
          <a:xfrm>
            <a:off x="2674800" y="1604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-195120" y="-38160"/>
            <a:ext cx="9339120" cy="784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0920" y="1593720"/>
            <a:ext cx="5048280" cy="578160"/>
          </a:xfrm>
          <a:prstGeom prst="rect">
            <a:avLst/>
          </a:prstGeom>
          <a:noFill/>
          <a:ln w="34920">
            <a:solidFill>
              <a:srgbClr val="9c9cdf">
                <a:alpha val="59000"/>
              </a:srgbClr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Outline of this present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611160" y="2225520"/>
            <a:ext cx="5342040" cy="24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447840" indent="-447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</a:rPr>
              <a:t>Slide 3-6:</a:t>
            </a:r>
            <a:r>
              <a:rPr b="0" lang="en-GB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 &amp;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447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</a:rPr>
              <a:t>Slide 7-8:</a:t>
            </a:r>
            <a:r>
              <a:rPr b="0" lang="en-GB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447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</a:rPr>
              <a:t>Slide 9-12:</a:t>
            </a:r>
            <a:r>
              <a:rPr b="0" lang="en-GB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results &amp;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447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</a:rPr>
              <a:t>Slide 13:</a:t>
            </a:r>
            <a:r>
              <a:rPr b="0" lang="en-GB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0" y="-14436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739800" y="103320"/>
            <a:ext cx="6480000" cy="11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880" y="4377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rvation of crop residu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1520" y="1025640"/>
            <a:ext cx="8504280" cy="48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674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rying on the farm field: “</a:t>
            </a:r>
            <a:r>
              <a:rPr b="1" lang="en-CA" sz="3200" spc="-1" strike="noStrike">
                <a:solidFill>
                  <a:srgbClr val="c00000"/>
                </a:solidFill>
                <a:latin typeface="Arial"/>
              </a:rPr>
              <a:t>Bad”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FS 029\Desktop\ILRI-UDS\PICTURES\IMG_20151016_011837.jpg"/>
          <p:cNvPicPr/>
          <p:nvPr/>
        </p:nvPicPr>
        <p:blipFill>
          <a:blip r:embed="rId1"/>
          <a:stretch/>
        </p:blipFill>
        <p:spPr>
          <a:xfrm>
            <a:off x="1981080" y="1919160"/>
            <a:ext cx="2484720" cy="1776600"/>
          </a:xfrm>
          <a:prstGeom prst="rect">
            <a:avLst/>
          </a:prstGeom>
          <a:ln w="0">
            <a:noFill/>
          </a:ln>
        </p:spPr>
      </p:pic>
      <p:cxnSp>
        <p:nvCxnSpPr>
          <p:cNvPr id="120" name="Straight Arrow Connector 6"/>
          <p:cNvCxnSpPr/>
          <p:nvPr/>
        </p:nvCxnSpPr>
        <p:spPr>
          <a:xfrm>
            <a:off x="4608360" y="2547720"/>
            <a:ext cx="783360" cy="6840"/>
          </a:xfrm>
          <a:prstGeom prst="straightConnector1">
            <a:avLst/>
          </a:prstGeom>
          <a:ln cap="sq" w="130320">
            <a:solidFill>
              <a:srgbClr val="003300"/>
            </a:solidFill>
            <a:miter/>
            <a:tailEnd len="med" type="triangle" w="med"/>
          </a:ln>
        </p:spPr>
      </p:cxnSp>
      <p:pic>
        <p:nvPicPr>
          <p:cNvPr id="121" name="Picture 8" descr="C:\Users\FS 029\Desktop\ILRI-UDS\PICTURES\IMG_20151016_011552.jpg"/>
          <p:cNvPicPr/>
          <p:nvPr/>
        </p:nvPicPr>
        <p:blipFill>
          <a:blip r:embed="rId2"/>
          <a:srcRect l="0" t="0" r="0" b="-7518"/>
          <a:stretch/>
        </p:blipFill>
        <p:spPr>
          <a:xfrm>
            <a:off x="243000" y="1916280"/>
            <a:ext cx="2138400" cy="1912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FS 029\Desktop\ILRI-UDS\PICTURES\IMG_20160311_200845.jpg"/>
          <p:cNvPicPr/>
          <p:nvPr/>
        </p:nvPicPr>
        <p:blipFill>
          <a:blip r:embed="rId3"/>
          <a:stretch/>
        </p:blipFill>
        <p:spPr>
          <a:xfrm>
            <a:off x="5319720" y="4095720"/>
            <a:ext cx="3646440" cy="2184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FS 029\Desktop\ILRI-UDS\PICTURES\IMG_20151105_092936.jpg"/>
          <p:cNvPicPr/>
          <p:nvPr/>
        </p:nvPicPr>
        <p:blipFill>
          <a:blip r:embed="rId4"/>
          <a:stretch/>
        </p:blipFill>
        <p:spPr>
          <a:xfrm>
            <a:off x="5477040" y="1838160"/>
            <a:ext cx="2973240" cy="181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5"/>
          <a:stretch/>
        </p:blipFill>
        <p:spPr>
          <a:xfrm>
            <a:off x="677880" y="4095720"/>
            <a:ext cx="3651120" cy="2184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"/>
          <p:cNvSpPr/>
          <p:nvPr/>
        </p:nvSpPr>
        <p:spPr>
          <a:xfrm>
            <a:off x="2503440" y="628020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ff0000"/>
                </a:solidFill>
                <a:latin typeface="Arial"/>
              </a:rPr>
              <a:t>High leaf &amp; leaching losses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6"/>
          <a:stretch/>
        </p:blipFill>
        <p:spPr>
          <a:xfrm>
            <a:off x="6540480" y="3695760"/>
            <a:ext cx="946080" cy="84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7"/>
          <a:stretch/>
        </p:blipFill>
        <p:spPr>
          <a:xfrm>
            <a:off x="4168800" y="4737240"/>
            <a:ext cx="107316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FS 029\Desktop\ILRI-UDS\PICTURES\IMG_20151016_012036.jpg"/>
          <p:cNvPicPr/>
          <p:nvPr/>
        </p:nvPicPr>
        <p:blipFill>
          <a:blip r:embed="rId1"/>
          <a:stretch/>
        </p:blipFill>
        <p:spPr>
          <a:xfrm>
            <a:off x="5589720" y="1104840"/>
            <a:ext cx="3192480" cy="4621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1880" y="4377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on of crop residu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1880" y="1180800"/>
            <a:ext cx="849168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00674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00"/>
                </a:solidFill>
                <a:latin typeface="Arial"/>
              </a:rPr>
              <a:t>Drying on a shed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1" lang="en-CA" sz="3200" spc="-1" strike="noStrike">
                <a:solidFill>
                  <a:srgbClr val="c00000"/>
                </a:solidFill>
                <a:latin typeface="Arial"/>
              </a:rPr>
              <a:t>very goo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Minimal leaf and leaching los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ntwi et al., 2010)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6"/>
          <p:cNvCxnSpPr/>
          <p:nvPr/>
        </p:nvCxnSpPr>
        <p:spPr>
          <a:xfrm>
            <a:off x="3801960" y="3790440"/>
            <a:ext cx="1007280" cy="1080"/>
          </a:xfrm>
          <a:prstGeom prst="straightConnector1">
            <a:avLst/>
          </a:prstGeom>
          <a:ln cap="sq" w="130320">
            <a:solidFill>
              <a:srgbClr val="009900"/>
            </a:solidFill>
            <a:miter/>
            <a:tailEnd len="med" type="triangle" w="med"/>
          </a:ln>
        </p:spPr>
      </p:cxnSp>
      <p:pic>
        <p:nvPicPr>
          <p:cNvPr id="132" name="Picture 3" descr="C:\Users\FS 029\Desktop\ILRI-UDS\Field Report\IMG_20151016_012014.jpg"/>
          <p:cNvPicPr/>
          <p:nvPr/>
        </p:nvPicPr>
        <p:blipFill>
          <a:blip r:embed="rId2"/>
          <a:stretch/>
        </p:blipFill>
        <p:spPr>
          <a:xfrm>
            <a:off x="114480" y="2338560"/>
            <a:ext cx="48132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1880" y="437760"/>
            <a:ext cx="8229600" cy="5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rvation of crop residu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1880" y="1238400"/>
            <a:ext cx="8491680" cy="48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00674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00"/>
                </a:solidFill>
                <a:latin typeface="Arial"/>
              </a:rPr>
              <a:t>Controlled drying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: “</a:t>
            </a:r>
            <a:r>
              <a:rPr b="1" lang="en-CA" sz="3200" spc="-1" strike="noStrike">
                <a:solidFill>
                  <a:srgbClr val="c00000"/>
                </a:solidFill>
                <a:latin typeface="Arial"/>
              </a:rPr>
              <a:t>better”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00000"/>
                </a:solidFill>
                <a:latin typeface="Arial"/>
              </a:rPr>
              <a:t>Excessive drying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: Volatilization of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00000"/>
                </a:solidFill>
                <a:latin typeface="Arial"/>
              </a:rPr>
              <a:t>Inadequate drying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:  Deterioration in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6"/>
          <p:cNvCxnSpPr/>
          <p:nvPr/>
        </p:nvCxnSpPr>
        <p:spPr>
          <a:xfrm>
            <a:off x="3924360" y="3600000"/>
            <a:ext cx="870480" cy="1080"/>
          </a:xfrm>
          <a:prstGeom prst="straightConnector1">
            <a:avLst/>
          </a:prstGeom>
          <a:ln cap="sq" w="130320">
            <a:solidFill>
              <a:srgbClr val="003300"/>
            </a:solidFill>
            <a:miter/>
            <a:tailEnd len="med" type="triangle" w="med"/>
          </a:ln>
        </p:spPr>
      </p:cxnSp>
      <p:pic>
        <p:nvPicPr>
          <p:cNvPr id="136" name="Picture 7" descr="C:\Users\FS 029\Desktop\ILRI-UDS\PICTURES\ILRI PICTURES 056.jpg"/>
          <p:cNvPicPr/>
          <p:nvPr/>
        </p:nvPicPr>
        <p:blipFill>
          <a:blip r:embed="rId1"/>
          <a:stretch/>
        </p:blipFill>
        <p:spPr>
          <a:xfrm>
            <a:off x="4813200" y="2324160"/>
            <a:ext cx="4129200" cy="232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FS 029\Desktop\ILRI-UDS\PICTURES\ILRI PICTURES 023.jpg"/>
          <p:cNvPicPr/>
          <p:nvPr/>
        </p:nvPicPr>
        <p:blipFill>
          <a:blip r:embed="rId2"/>
          <a:stretch/>
        </p:blipFill>
        <p:spPr>
          <a:xfrm>
            <a:off x="95400" y="2266920"/>
            <a:ext cx="37098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662940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3300"/>
                </a:solidFill>
                <a:latin typeface="Arial"/>
              </a:rPr>
              <a:t>Ensiling:</a:t>
            </a:r>
            <a:r>
              <a:rPr b="1" lang="en-CA" sz="3200" spc="-1" strike="noStrike">
                <a:solidFill>
                  <a:srgbClr val="800000"/>
                </a:solidFill>
                <a:latin typeface="Arial"/>
              </a:rPr>
              <a:t> “</a:t>
            </a:r>
            <a:r>
              <a:rPr b="1" lang="en-CA" sz="3200" spc="-1" strike="noStrike">
                <a:solidFill>
                  <a:srgbClr val="c00000"/>
                </a:solidFill>
                <a:latin typeface="Arial"/>
              </a:rPr>
              <a:t>best”</a:t>
            </a:r>
            <a:r>
              <a:rPr b="1" lang="en-CA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c00000"/>
                </a:solidFill>
                <a:latin typeface="Arial"/>
              </a:rPr>
              <a:t>practic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104480"/>
            <a:ext cx="82296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C:\Users\FS 029\Desktop\ILRI-UDS\PICTURES\ILRI PICTURES 065.jpg"/>
          <p:cNvPicPr/>
          <p:nvPr/>
        </p:nvPicPr>
        <p:blipFill>
          <a:blip r:embed="rId1"/>
          <a:stretch/>
        </p:blipFill>
        <p:spPr>
          <a:xfrm>
            <a:off x="471600" y="4552920"/>
            <a:ext cx="3700440" cy="2081160"/>
          </a:xfrm>
          <a:prstGeom prst="rect">
            <a:avLst/>
          </a:prstGeom>
          <a:ln w="31680">
            <a:solidFill>
              <a:srgbClr val="006600"/>
            </a:solidFill>
            <a:miter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5796000" y="2771640"/>
            <a:ext cx="2603520" cy="3681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1784520" y="3886200"/>
            <a:ext cx="944280" cy="844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4"/>
          <a:stretch/>
        </p:blipFill>
        <p:spPr>
          <a:xfrm>
            <a:off x="4683240" y="5121360"/>
            <a:ext cx="1431720" cy="1261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Users\FS 029\Desktop\ILRI-UDS\PICTURES\ILRI PICTURES 051.jpg"/>
          <p:cNvPicPr/>
          <p:nvPr/>
        </p:nvPicPr>
        <p:blipFill>
          <a:blip r:embed="rId5"/>
          <a:stretch/>
        </p:blipFill>
        <p:spPr>
          <a:xfrm>
            <a:off x="471600" y="1557360"/>
            <a:ext cx="3571920" cy="2201760"/>
          </a:xfrm>
          <a:prstGeom prst="rect">
            <a:avLst/>
          </a:prstGeom>
          <a:ln w="3492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4000"/>
            <a:ext cx="8229600" cy="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3300"/>
                </a:solidFill>
                <a:latin typeface="Arial"/>
              </a:rPr>
              <a:t>The hay and silage were used to formulate 2 diets</a:t>
            </a:r>
            <a:endParaRPr b="1" lang="en-US" sz="25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46" name="Picture 3" descr="C:\Users\FS 029\AppData\Local\Microsoft\Windows\Temporary Internet Files\Content.IE5\AC66COPY\IMG-20160607-WA0003.jpg"/>
          <p:cNvPicPr/>
          <p:nvPr/>
        </p:nvPicPr>
        <p:blipFill>
          <a:blip r:embed="rId1"/>
          <a:stretch/>
        </p:blipFill>
        <p:spPr>
          <a:xfrm>
            <a:off x="457200" y="1152360"/>
            <a:ext cx="32958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533520" y="3182760"/>
          <a:ext cx="7696080" cy="3140280"/>
        </p:xfrm>
        <a:graphic>
          <a:graphicData uri="http://schemas.openxmlformats.org/drawingml/2006/table">
            <a:tbl>
              <a:tblPr/>
              <a:tblGrid>
                <a:gridCol w="4838760"/>
                <a:gridCol w="1404720"/>
                <a:gridCol w="1452600"/>
              </a:tblGrid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ble 1. Ingredient composition diets made of hay or silage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dient (g/kg)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y 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age 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 cotton seed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e bran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 chaff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iled groundnut haul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ed groundnut haul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2f2b2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2" descr="C:\Users\FS 029\AppData\Local\Microsoft\Windows\Temporary Internet Files\Content.IE5\CVKABFWG\IMG-20160607-WA0002.jpg"/>
          <p:cNvPicPr/>
          <p:nvPr/>
        </p:nvPicPr>
        <p:blipFill>
          <a:blip r:embed="rId2"/>
          <a:stretch/>
        </p:blipFill>
        <p:spPr>
          <a:xfrm>
            <a:off x="4319640" y="1228680"/>
            <a:ext cx="30337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22200"/>
            <a:ext cx="6284880" cy="61128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00"/>
                </a:solidFill>
                <a:latin typeface="Arial"/>
              </a:rPr>
              <a:t>Laboratory analys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9960" y="16030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oximate analysis of di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emical analyses of silage/h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crobial analyses of silage/h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599a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ctic acid producing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599a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Yeasts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599a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ulds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7048440" y="1009800"/>
            <a:ext cx="1787760" cy="2525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6586920" y="354024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9933"/>
                </a:solidFill>
                <a:latin typeface="Arial"/>
                <a:ea typeface="Arial"/>
              </a:rPr>
              <a:t>Chemical analyses 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714000" y="631656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39933"/>
                </a:solidFill>
                <a:latin typeface="Arial"/>
                <a:ea typeface="Arial"/>
              </a:rPr>
              <a:t>Microbial analyses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154" name="Picture 11" descr="C:\Users\FS 029\Desktop\ILRI-UDS\Silage-making\Pictures from Botingle\20160331_171610.jpg"/>
          <p:cNvPicPr/>
          <p:nvPr/>
        </p:nvPicPr>
        <p:blipFill>
          <a:blip r:embed="rId5"/>
          <a:stretch/>
        </p:blipFill>
        <p:spPr>
          <a:xfrm>
            <a:off x="6576840" y="4603680"/>
            <a:ext cx="23958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1880" y="39996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: Nutrient composition 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mean ± SD) of diets</a:t>
            </a:r>
            <a:br>
              <a:rPr sz="2400"/>
            </a:b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1428840"/>
          <a:ext cx="8191800" cy="3178080"/>
        </p:xfrm>
        <a:graphic>
          <a:graphicData uri="http://schemas.openxmlformats.org/drawingml/2006/table">
            <a:tbl>
              <a:tblPr/>
              <a:tblGrid>
                <a:gridCol w="3672000"/>
                <a:gridCol w="2119320"/>
                <a:gridCol w="2400480"/>
              </a:tblGrid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y  diet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age  diet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y matter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.1 ± 40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7.5 ± 37.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de protein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.5 ± 35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.3 ± 18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de fat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±0.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± 11.6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4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tral detergent fibre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5.0 ± 86.7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0 ± 11.7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id detergent fibre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.0 ± 113.3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 ± 86.6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 (MJ/kg DM)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 ± 1.99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1 ± 0.0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"/>
          <p:cNvSpPr/>
          <p:nvPr/>
        </p:nvSpPr>
        <p:spPr>
          <a:xfrm>
            <a:off x="514440" y="5911920"/>
            <a:ext cx="81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 (MJ/kg DM) = 0.31crude protein + 0.12 crude fat + 0.05 crude fibre + 0.14 nitrogen free extract (Ellis, 1980).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7:42:17Z</dcterms:created>
  <dc:creator>Erin Cadieu</dc:creator>
  <dc:description/>
  <dc:language>en-US</dc:language>
  <cp:lastModifiedBy>Odhong, Jonathan (IITA)</cp:lastModifiedBy>
  <cp:lastPrinted>2013-08-12T17:02:15Z</cp:lastPrinted>
  <dcterms:modified xsi:type="dcterms:W3CDTF">2016-12-14T07:43:22Z</dcterms:modified>
  <cp:revision>953</cp:revision>
  <dc:subject>January 20, 1998</dc:subject>
  <dc:title>New strategies for the prevention of pasture bloat</dc:title>
</cp:coreProperties>
</file>